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C71-02FF-4D0D-BC17-3567E7E5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CAC-8AF2-43DE-B93A-FD2EF845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4E6-EC84-42CB-A33E-E4E93A79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9CF-C305-4CF4-AB73-AF2E487A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A721-4CAE-4C66-A52E-D02D03C6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8727-2C16-4CA4-B183-E251FDC3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90D1-C20B-469B-9A36-D80F1BD4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2056-57DA-43F9-90DD-1B611F6A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4A78-93BA-49D8-946C-E55DC8D6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0A2D-2ECF-4F2B-AE4C-12DF89F4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FD2D-6139-4FD6-AD78-40B57630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338-C7EF-42DE-A5F7-08AE558A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237A-BB0C-461D-9E86-9E28E706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7777-1040-43D0-A3B8-E0FFD764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BF23-ACBC-4713-A9B7-0D8F2202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6E03-D6CF-453B-B046-1D7497E2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35B5-7E64-4D28-9162-3C0EE752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696-8C19-41F4-AB3A-86A1A8CD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A43-C451-49DF-9D6C-D85413BE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264-BA21-45FC-AA9B-766BA02E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D45-F3DC-4F4E-8609-7042A172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8B3-68F0-4E5D-A8AA-0633A5D9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76E-B833-425B-915D-AB2C30F6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F4B-CB80-403E-9AD6-33536135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581B-5A00-41CA-99C7-C3445AC828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7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8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3849840" y="258840"/>
            <a:ext cx="1436400" cy="1000080"/>
            <a:chOff x="3849840" y="258840"/>
            <a:chExt cx="1436400" cy="1000080"/>
          </a:xfrm>
        </p:grpSpPr>
        <p:pic>
          <p:nvPicPr>
            <p:cNvPr id="48" name="Picture 6" descr="LOGO CE-EN-quadri.eps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14"/>
            <p:cNvSpPr/>
            <p:nvPr/>
          </p:nvSpPr>
          <p:spPr>
            <a:xfrm>
              <a:off x="4145040" y="1222200"/>
              <a:ext cx="61920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50" name="Rectangle 1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B0AD-E2BF-45C5-A5C5-A1D4FBDEBA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index_en.htm" TargetMode="External"/><Relationship Id="rId2" Type="http://schemas.openxmlformats.org/officeDocument/2006/relationships/hyperlink" Target="http://ec.europa.eu/sanco_pesticides" TargetMode="External"/><Relationship Id="rId3" Type="http://schemas.openxmlformats.org/officeDocument/2006/relationships/hyperlink" Target="http://eur-lex.europa.eu/legal-content/PT/TXT/PDF/?uri=CELEX:32009R1107&amp;rid=1" TargetMode="External"/><Relationship Id="rId4" Type="http://schemas.openxmlformats.org/officeDocument/2006/relationships/hyperlink" Target="http://eur-lex.europa.eu/legal-content/PT/TXT/PDF/?uri=CELEX:32009R1107&amp;rid=1" TargetMode="External"/><Relationship Id="rId5" Type="http://schemas.openxmlformats.org/officeDocument/2006/relationships/hyperlink" Target="http://eur-lex.europa.eu/legal-content/PT/TXT/PDF/?uri=CELEX:32009R1107&amp;rid=1" TargetMode="External"/><Relationship Id="rId6" Type="http://schemas.openxmlformats.org/officeDocument/2006/relationships/hyperlink" Target="http://eur-lex.europa.eu/legal-content/PT/TXT/PDF/?uri=CELEX:32009R1107&amp;rid=1" TargetMode="External"/><Relationship Id="rId7" Type="http://schemas.openxmlformats.org/officeDocument/2006/relationships/hyperlink" Target="http://eur-lex.europa.eu/legal-content/PT/TXT/PDF/?uri=CELEX:32013R0283&amp;rid=4" TargetMode="External"/><Relationship Id="rId8" Type="http://schemas.openxmlformats.org/officeDocument/2006/relationships/hyperlink" Target="http://eur-lex.europa.eu/legal-content/PT/TXT/PDF/?uri=CELEX:32013R0283&amp;rid=4" TargetMode="External"/><Relationship Id="rId9" Type="http://schemas.openxmlformats.org/officeDocument/2006/relationships/hyperlink" Target="http://eur-lex.europa.eu/legal-content/PT/TXT/PDF/?uri=CELEX:32013R0283&amp;rid=4" TargetMode="External"/><Relationship Id="rId10" Type="http://schemas.openxmlformats.org/officeDocument/2006/relationships/hyperlink" Target="http://eur-lex.europa.eu/legal-content/PT/TXT/PDF/?uri=CELEX:32013R0283&amp;rid=4" TargetMode="External"/><Relationship Id="rId11" Type="http://schemas.openxmlformats.org/officeDocument/2006/relationships/hyperlink" Target="http://eur-lex.europa.eu/legal-content/PT/TXT/PDF/?uri=CELEX:32013R0284&amp;rid=5" TargetMode="External"/><Relationship Id="rId12" Type="http://schemas.openxmlformats.org/officeDocument/2006/relationships/hyperlink" Target="http://eur-lex.europa.eu/legal-content/PT/TXT/PDF/?uri=CELEX:32013R0284&amp;rid=5" TargetMode="External"/><Relationship Id="rId13" Type="http://schemas.openxmlformats.org/officeDocument/2006/relationships/hyperlink" Target="http://eur-lex.europa.eu/legal-content/PT/TXT/PDF/?uri=CELEX:32013R0284&amp;rid=5" TargetMode="External"/><Relationship Id="rId14" Type="http://schemas.openxmlformats.org/officeDocument/2006/relationships/hyperlink" Target="http://eur-lex.europa.eu/legal-content/PT/TXT/PDF/?uri=CELEX:32013R0284&amp;rid=5" TargetMode="External"/><Relationship Id="rId15" Type="http://schemas.openxmlformats.org/officeDocument/2006/relationships/hyperlink" Target="http://eur-lex.europa.eu/legal-content/PT/TXT/PDF/?uri=CELEX:32011R0546&amp;rid=1" TargetMode="External"/><Relationship Id="rId16" Type="http://schemas.openxmlformats.org/officeDocument/2006/relationships/hyperlink" Target="http://eur-lex.europa.eu/legal-content/PT/TXT/PDF/?uri=CELEX:32011R0546&amp;rid=1" TargetMode="External"/><Relationship Id="rId17" Type="http://schemas.openxmlformats.org/officeDocument/2006/relationships/hyperlink" Target="http://eur-lex.europa.eu/legal-content/PT/TXT/PDF/?uri=CELEX:32011R0546&amp;rid=1" TargetMode="External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7160" y="2808000"/>
            <a:ext cx="8697600" cy="17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d624"/>
                </a:solidFill>
                <a:latin typeface="Verdana"/>
              </a:rPr>
              <a:t>The EU regulatory system on placing plant protection products on the market</a:t>
            </a: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09680" y="1281240"/>
            <a:ext cx="6840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Technical Mission from Brazil "Control and Regulation of Pesticides and Biocides"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6-11 October 2014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33280" y="5316480"/>
            <a:ext cx="68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Wolfgang Reine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Health and Consumers Directorate-General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Unit Chemicals, contaminants, pesticide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1609560"/>
            <a:ext cx="8896320" cy="506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7510320" cy="498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uthorisation of plant protection produc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Authoris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158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In assessing applications, MS evluate active substance- and product-dossier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In granting authorisations, MS set out the requirements for placing on the market, e.g.: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lassification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onditions of use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the label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S enforce compliance with the authorisat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ommission monitors and controls MS activitie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Zonal Mutual Recognition of authoris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7" name="Picture 4" descr="eur-map_amended"/>
          <p:cNvPicPr/>
          <p:nvPr/>
        </p:nvPicPr>
        <p:blipFill>
          <a:blip r:embed="rId1"/>
          <a:stretch/>
        </p:blipFill>
        <p:spPr>
          <a:xfrm>
            <a:off x="971640" y="1819440"/>
            <a:ext cx="74167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1206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Zonal Mutual recognition of authoris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2006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An authorisation </a:t>
            </a:r>
            <a:r>
              <a:rPr b="0" lang="en-US" sz="1900" spc="-1" strike="noStrike" u="sng">
                <a:solidFill>
                  <a:srgbClr val="0f5494"/>
                </a:solidFill>
                <a:uFillTx/>
                <a:latin typeface="Verdana"/>
              </a:rPr>
              <a:t>must</a:t>
            </a: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 be taken over by all other MS of the same zone, on applicat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It </a:t>
            </a:r>
            <a:r>
              <a:rPr b="0" lang="en-US" sz="1900" spc="-1" strike="noStrike" u="sng">
                <a:solidFill>
                  <a:srgbClr val="0f5494"/>
                </a:solidFill>
                <a:uFillTx/>
                <a:latin typeface="Verdana"/>
              </a:rPr>
              <a:t>may</a:t>
            </a: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 be taken over by MS of the other two zone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During recognition, some parts of the authorisation may be adapted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In assessing an application, a MS shall consult all other MS of its zon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For new applications, only one application per zon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Different time periods for authorisation (12+6 months) and  mutual recognition (120 days)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Harmonisation of decision-making standard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7840" y="2168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hallenge to create a level playing field between 28 MS 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The following standards are harmonised on EU level: 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Positive list of active substances (safeners and synergists) for use in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Data requirements for active substanc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Data requirements for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Labelling requirements, including standard phrases for special risks and for safety precaution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Uniform principles for evaluation and decision making of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62000" y="1247760"/>
            <a:ext cx="88106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9960" y="127080"/>
            <a:ext cx="72104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6200" y="9684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f5494"/>
                </a:solidFill>
                <a:latin typeface="Verdana"/>
              </a:rPr>
              <a:t>Useful link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5640" y="136224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DG Health and Consumers website on pesticides: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plant/pesticides/index_en.htm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Pesticides database: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sanco_pesticide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C) No 1107/2009 on placing PPP on the market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uri=CELEX:32009R1107&amp;rid=1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U) No 283/2013 &amp; 542/2011 on data requirements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uri=CELEX:32013R0283&amp;rid=4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uri=CELEX:32013R0284&amp;rid=5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U) No 546/2011 on uniform principles for evaluation and decision-making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/?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uri=CELEX:32011R0546&amp;rid=1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Directive 2009/128/EC on sustainable use of pesticides</a:t>
            </a:r>
            <a:br>
              <a:rPr sz="1400"/>
            </a:b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http://eur-lex.europa.eu/legal-content/PT/TXT/?qid=1412519619255&amp;uri=CELEX:02009L0128-20091125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C) No 396/2005 on pesticide residues</a:t>
            </a:r>
            <a:br>
              <a:rPr sz="1400"/>
            </a:b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http://eur-lex.europa.eu/legal-content/PT/TXT/?qid=1412519532173&amp;uri=CELEX:02005R0396-20140202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25520" y="2754360"/>
            <a:ext cx="6446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Thank you very much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for your attention!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 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102"/>
                            </p:stCondLst>
                            <p:childTnLst>
                              <p:par>
                                <p:cTn id="303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4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05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6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602"/>
                            </p:stCondLst>
                            <p:childTnLst>
                              <p:par>
                                <p:cTn id="308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9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10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11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102"/>
                            </p:stCondLst>
                            <p:childTnLst>
                              <p:par>
                                <p:cTn id="314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5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16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17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1" dur="1" fill="hold"/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3105000" y="1552680"/>
            <a:ext cx="3629160" cy="32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2419200" y="1249200"/>
            <a:ext cx="5078520" cy="378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241200" y="5086440"/>
            <a:ext cx="868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Pesticide” often used synonymously to agricultural pesticid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Depending on the use, different legislative frameworks can apply to the same pesticide active substance  within the EU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41200" y="1552680"/>
            <a:ext cx="2178000" cy="72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esticide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(FAO-definition)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99" name="Straight Arrow Connector 5"/>
          <p:cNvCxnSpPr>
            <a:stCxn id="98" idx="3"/>
          </p:cNvCxnSpPr>
          <p:nvPr/>
        </p:nvCxnSpPr>
        <p:spPr>
          <a:xfrm>
            <a:off x="2418840" y="1912680"/>
            <a:ext cx="10011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bc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bc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The lifecycle of a PPP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17600" y="1989000"/>
            <a:ext cx="8308800" cy="211644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27"/>
          <p:cNvGrpSpPr/>
          <p:nvPr/>
        </p:nvGrpSpPr>
        <p:grpSpPr>
          <a:xfrm>
            <a:off x="528480" y="3546360"/>
            <a:ext cx="7632720" cy="2971080"/>
            <a:chOff x="528480" y="3546360"/>
            <a:chExt cx="7632720" cy="2971080"/>
          </a:xfrm>
        </p:grpSpPr>
        <p:sp>
          <p:nvSpPr>
            <p:cNvPr id="103" name="Text Box 7"/>
            <p:cNvSpPr/>
            <p:nvPr/>
          </p:nvSpPr>
          <p:spPr>
            <a:xfrm>
              <a:off x="528480" y="3562200"/>
              <a:ext cx="244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Regulation (EC) No 1107/2009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3263760" y="3546360"/>
              <a:ext cx="216036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irective 128/2009/EC on Sustainable Use of Pesticides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Regulation on Pesticide Statistics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Amended Machinery Directive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6000840" y="3562200"/>
              <a:ext cx="2160360" cy="177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MRL Regulation (396/2005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Legislation on Chemicals (chemical waste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Dual pre-marketing authoris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432080" y="2327400"/>
            <a:ext cx="6279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91680" cy="4829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7400" y="1209240"/>
            <a:ext cx="5367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pproval of active substanc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pproval of active substanc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traight Connector 2"/>
          <p:cNvSpPr/>
          <p:nvPr/>
        </p:nvSpPr>
        <p:spPr>
          <a:xfrm>
            <a:off x="343080" y="5334120"/>
            <a:ext cx="817236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112" name="Group 2"/>
          <p:cNvGrpSpPr/>
          <p:nvPr/>
        </p:nvGrpSpPr>
        <p:grpSpPr>
          <a:xfrm>
            <a:off x="487440" y="2000160"/>
            <a:ext cx="8191440" cy="4623840"/>
            <a:chOff x="487440" y="2000160"/>
            <a:chExt cx="8191440" cy="4623840"/>
          </a:xfrm>
        </p:grpSpPr>
        <p:pic>
          <p:nvPicPr>
            <p:cNvPr id="113" name="Picture 2" descr=""/>
            <p:cNvPicPr/>
            <p:nvPr/>
          </p:nvPicPr>
          <p:blipFill>
            <a:blip r:embed="rId1"/>
            <a:stretch/>
          </p:blipFill>
          <p:spPr>
            <a:xfrm>
              <a:off x="487440" y="2000160"/>
              <a:ext cx="8191440" cy="45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1"/>
            <p:cNvSpPr/>
            <p:nvPr/>
          </p:nvSpPr>
          <p:spPr>
            <a:xfrm>
              <a:off x="3343320" y="3290760"/>
              <a:ext cx="29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8a2100"/>
                  </a:solidFill>
                  <a:latin typeface="Verdana"/>
                </a:rPr>
                <a:t>(Draft Assessment Report)</a:t>
              </a:r>
              <a:endParaRPr b="1" lang="en-US" sz="14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15" name="TextBox 1"/>
            <p:cNvSpPr/>
            <p:nvPr/>
          </p:nvSpPr>
          <p:spPr>
            <a:xfrm>
              <a:off x="554040" y="625572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01a58"/>
                  </a:solidFill>
                  <a:latin typeface="Verdana"/>
                </a:rPr>
                <a:t>&amp; all MS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Approva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177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Based on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Draft Assessment Report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(by 1 rapporteur Member State) and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FSA Conclus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Establishes, whether the substance fulfils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the general criteria for approval; and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PP and their residues are not expected to have harmful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effects on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human health or groundwater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or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unacceptable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ffects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on the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nvironment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for at least one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representative us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ay contain restrictions or condition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Normally valid for 10 years, renewal of approval for 15 year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ay be reviewed at any tim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Special approva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187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Low risk active substances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economic incentives (longer aproval, shorter time to market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decision </a:t>
            </a:r>
            <a:r>
              <a:rPr b="0" i="1" lang="de-DE" sz="1800" spc="-1" strike="noStrike">
                <a:solidFill>
                  <a:srgbClr val="0f5494"/>
                </a:solidFill>
                <a:latin typeface="Verdana"/>
              </a:rPr>
              <a:t>ex post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; no presumption of safety - concep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Candidate for Substitution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ubstance having more critical profile than average, e.g. 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significantly lower ADI, ARfD or AOEL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ubstances meeting certain hazard criteria (2/3 PBT criteria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horter approval period (7 years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Comparative assessment at PPP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Basic substances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Not predominantly used in plant protection and no concern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No authorisation required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Hazard elements in decision-mak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187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ut-off criteria were introduced as initial step of decision-making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Hazard-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based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decisions for some environmental issues, e.g.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BT, vPvB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O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Hazard-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driven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decisions for some health issues: 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lassification C, M, R cat.1 under Reg. (EC) No 1272/2008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Endocrine disruptors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Risk elements: not applicable in case of negligible exposure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or a serious danger to plant health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REINERT Wolfgang (SANCO)</cp:lastModifiedBy>
  <cp:lastPrinted>2014-10-03T09:20:43Z</cp:lastPrinted>
  <dcterms:modified xsi:type="dcterms:W3CDTF">2014-10-05T14:51:58Z</dcterms:modified>
  <cp:revision>341</cp:revision>
  <dc:subject/>
  <dc:title>Slide 1</dc:title>
</cp:coreProperties>
</file>